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A723-BE1F-4BA2-8F83-783D3CC2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EA37-241D-4289-8014-2AF04B22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2456-D30B-453F-AE50-211C0AAA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5920-B9E7-4899-BE65-5ED6A946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44DC-D80A-4862-BCB3-E12C7536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9415-8ED4-42ED-B900-4990018C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0283-B3DE-4416-A59D-9E560BA7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BC1-FD02-4B19-91D0-713C8238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247C-0A41-4A7A-9C71-112BBC3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8EA9-6479-49F3-BC23-FA8FBF1A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507E-369A-4848-B2AB-9D578AA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A660-6315-494D-B565-F05670B7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8AD1-3728-446E-91DF-12E59CD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DC54-DE11-4451-8722-C6B4B345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6164-5307-43E1-BC7A-F924F6F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E4A5-0BE1-4DB5-BBB2-D8E696E5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8E9-5E98-4217-A790-FE48FDA3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8ACA-4B86-41C0-9B06-AE4A9FF4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4F93-E238-4B9F-8651-EFC37E56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E699-5715-4B69-9CB8-1354590C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B6A7-A3AE-4CB1-803C-72D17A40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5239-ADF8-4092-AF8D-C34254E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6CF2-5EA8-4C05-84A0-8DA0C239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FB87-C1FE-43B2-84ED-6A0A83D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CC2-A996-4C04-ABBF-559F2BA3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E5F-3CD2-4413-8024-B8EE0356F5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Student</a:t>
            </a:r>
            <a:br>
              <a:rPr sz="4800"/>
            </a:b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Internet Safety </a:t>
            </a:r>
            <a:br>
              <a:rPr sz="4800"/>
            </a:b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Training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Hawk Scho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j0205582"/>
          <p:cNvPicPr/>
          <p:nvPr/>
        </p:nvPicPr>
        <p:blipFill>
          <a:blip r:embed="rId1"/>
          <a:stretch/>
        </p:blipFill>
        <p:spPr>
          <a:xfrm>
            <a:off x="6746760" y="246528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Ravie"/>
              </a:rPr>
              <a:t>Social networkin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t ro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ulletin bo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Webkinz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Club Pengu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AIM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Facebook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My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hat are some of the things we need to remember about these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okerman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17680" y="3846600"/>
            <a:ext cx="443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6" descr="j0292982"/>
          <p:cNvPicPr/>
          <p:nvPr/>
        </p:nvPicPr>
        <p:blipFill>
          <a:blip r:embed="rId5"/>
          <a:stretch/>
        </p:blipFill>
        <p:spPr>
          <a:xfrm>
            <a:off x="6148440" y="2152800"/>
            <a:ext cx="184320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Papyrus"/>
              </a:rPr>
              <a:t>Being comfortable  onlin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Recog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Avoi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n’t take chances, if you are not sure talk to an ad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Ravie"/>
              </a:rPr>
              <a:t>Personal Inform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hat is personal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hy shouldn’t you put this on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 rot="19896600">
            <a:off x="1069560" y="3962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 rot="967200">
            <a:off x="6781320" y="3962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 rot="741600">
            <a:off x="1374480" y="5638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ne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 rot="562800">
            <a:off x="3964320" y="47239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463800" y="5446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 rot="20586600">
            <a:off x="3736800" y="37339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Chiller"/>
              </a:rPr>
              <a:t>Online Tricks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y would someone want to deceive or trick you onl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if you saw something on the computer you think is illegal or against the la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should you do if you see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j0287005"/>
          <p:cNvPicPr/>
          <p:nvPr/>
        </p:nvPicPr>
        <p:blipFill>
          <a:blip r:embed="rId1"/>
          <a:stretch/>
        </p:blipFill>
        <p:spPr>
          <a:xfrm rot="5187000">
            <a:off x="585360" y="880920"/>
            <a:ext cx="72216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Papyrus"/>
              </a:rPr>
              <a:t>There are laws!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laws against copying things from the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Ravie"/>
              </a:rPr>
              <a:t>Music     Video     Pictures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Ravie"/>
              </a:rPr>
              <a:t>Written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radley Hand ITC"/>
              </a:rPr>
              <a:t>Give credit where credit is 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radley Hand ITC"/>
              </a:rPr>
              <a:t>Ask per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radley Hand ITC"/>
              </a:rPr>
              <a:t>Don’t stea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Ravie"/>
              </a:rPr>
              <a:t>CyberBull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or inappropriat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LL SOMEO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don’t respon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Papyrus"/>
              </a:rPr>
              <a:t>The world wide web has a lot to off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Papyrus"/>
              </a:rPr>
              <a:t>Learn to use it safel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" descr="j0300520"/>
          <p:cNvPicPr/>
          <p:nvPr/>
        </p:nvPicPr>
        <p:blipFill>
          <a:blip r:embed="rId1"/>
          <a:stretch/>
        </p:blipFill>
        <p:spPr>
          <a:xfrm>
            <a:off x="3505320" y="4038480"/>
            <a:ext cx="206208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1:33:15Z</dcterms:created>
  <dc:creator>Judy Smith</dc:creator>
  <dc:description/>
  <dc:language>en-US</dc:language>
  <cp:lastModifiedBy>admin admin</cp:lastModifiedBy>
  <dcterms:modified xsi:type="dcterms:W3CDTF">2010-10-05T14:40:39Z</dcterms:modified>
  <cp:revision>4</cp:revision>
  <dc:subject/>
  <dc:title>Student Internet Safety  Training  </dc:title>
</cp:coreProperties>
</file>